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1B87-786D-4FAB-BB76-7CE2462A8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1BEC-581D-4053-A770-085F3347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3181-24D6-4296-B0F1-5212540BC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B5D5-3D80-4D55-AF45-ECA772AE6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308C-5200-404A-8D42-D54757B68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5270-05F4-4C00-8C93-8490800C9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8B78-700D-4827-9930-2285F86B2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4043-48D2-435E-A065-46FFFCEC2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29B6-7B87-484F-805E-6E8CC9C24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5438-BA64-4C42-B4D3-C14F7B8C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C1E3-BA1F-4F29-AF42-924BC716C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E040-8286-464D-914E-D32627089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67C-BD6D-4B5C-96BE-68FEE1597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FFD7-C126-43BC-B1DB-7DA1312D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017B-E1AC-4FD1-A063-836386A4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F1BC-4282-41FD-B230-D3059ED8F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70D6-2D8A-419B-9B16-F1A95CE27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9790-5CD9-4E15-98DD-72C4508BB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FBE3-688A-4679-8A7A-12FB98ABD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116-AB36-4EB5-9FEB-25EDD897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571-0287-413D-8AD7-858A6A7B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DD1-CE5C-4FC8-B90A-4FDD2DB2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04F-3604-44C9-B629-0BF538A8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187-4105-4175-AE01-B66327FA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275-6E01-4282-8E70-AE420769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A09-B37D-4E81-BEF7-8A7258CC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87E-BFFF-4301-9333-28D13428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C22-1404-4029-9671-0F00A105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424-ED42-4E36-9A88-71197ED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A6C-3FB9-4351-A56A-D4C37295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773-55F1-4E97-8C9C-4A030C5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4B5C-4110-4DC0-86DE-5B99600CE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21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58E6-85B5-49E4-9681-000636D1E13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ТЕХНИКЕ ИЗВОЂЕЊА ЛОКАЛНЕ АНЕСТЕЗИЈЕ У ДОЊОЈ ВИЛИЦ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4060440"/>
            <a:ext cx="77202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( B5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0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7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општи принципи, избор прибора за локалну анестезију,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терминалне и спроводне анестезије у  доњој вилиц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</a:t>
            </a:r>
            <a:r>
              <a:rPr b="1" i="1" lang="sr-RS" sz="1400" spc="-1" strike="noStrike">
                <a:solidFill>
                  <a:srgbClr val="000000"/>
                </a:solidFill>
                <a:latin typeface="Palatino Linotype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99400" y="6180120"/>
            <a:ext cx="78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0" y="6424560"/>
            <a:ext cx="3808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8687-613B-4604-831D-0B8F2A4A81C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76280" y="1790640"/>
            <a:ext cx="81295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GOW- GATES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Ово је интраорална техника мандибуларне анестезије којом се обично анестезирају </a:t>
            </a:r>
            <a:r>
              <a:rPr b="0" lang="sr-C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све три оралне гране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мандибуларног живца, уз коришћење екстраоралних орјентационих тачак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ијентационе тачке: ▪урез између трагуса и антитраг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    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incisura intertragic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                                ▪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гулација ушне шкољк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                                  ▪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гао у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0" y="6424560"/>
            <a:ext cx="3753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069B-2436-430F-8B03-ED8A87E2A4D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Picture 4" descr="anest090"/>
          <p:cNvPicPr/>
          <p:nvPr/>
        </p:nvPicPr>
        <p:blipFill>
          <a:blip r:embed="rId1"/>
          <a:srcRect l="10702" t="6029" r="13838" b="9421"/>
          <a:stretch/>
        </p:blipFill>
        <p:spPr>
          <a:xfrm>
            <a:off x="163440" y="1541520"/>
            <a:ext cx="5183280" cy="43545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/>
          <p:cNvSpPr/>
          <p:nvPr/>
        </p:nvSpPr>
        <p:spPr>
          <a:xfrm>
            <a:off x="5499000" y="1603440"/>
            <a:ext cx="3481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Бризгалица се усмери из правца угла усана супротне стране, према урезу између трагуса и антитрагуса ушне шкољке стране на којој се примењује анестезија, паралелно са ангулацијом ушне шкољке према лицу. По пробијању слузокоже, игла пролази кроз образни мишић, затим птеригомандибуларни простор, док не дође у контакт са кости. У том моменту игла се налази у пределу предњег дела врата доње вил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4221-3D36-4E52-BE86-15C9DE22D2F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2" name="Picture 4" descr="anest092"/>
          <p:cNvPicPr/>
          <p:nvPr/>
        </p:nvPicPr>
        <p:blipFill>
          <a:blip r:embed="rId1"/>
          <a:srcRect l="12321" t="12774" r="7672" b="15275"/>
          <a:stretch/>
        </p:blipFill>
        <p:spPr>
          <a:xfrm>
            <a:off x="200160" y="2205000"/>
            <a:ext cx="4910040" cy="331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anest093"/>
          <p:cNvPicPr/>
          <p:nvPr/>
        </p:nvPicPr>
        <p:blipFill>
          <a:blip r:embed="rId2"/>
          <a:srcRect l="46053" t="0" r="0" b="33714"/>
          <a:stretch/>
        </p:blipFill>
        <p:spPr>
          <a:xfrm>
            <a:off x="5245200" y="2066760"/>
            <a:ext cx="374652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0" y="6424560"/>
            <a:ext cx="3740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6536-ECA3-44B5-B73C-898D3BF217C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63680" y="1703520"/>
            <a:ext cx="81039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KINOSI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Интраорална техника мандибуларне анестезије која се изводи са зубима у оклузији, посебно погодна код пацијената са тризмусом који је последица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Users\Zoran\Downloads\anestezija\imagesCA51DJEC.jpg"/>
          <p:cNvPicPr/>
          <p:nvPr/>
        </p:nvPicPr>
        <p:blipFill>
          <a:blip r:embed="rId1"/>
          <a:stretch/>
        </p:blipFill>
        <p:spPr>
          <a:xfrm>
            <a:off x="647640" y="3646440"/>
            <a:ext cx="3853080" cy="25192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4722840" y="3181320"/>
            <a:ext cx="442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Бризгалица са иглом поставља се паралелно са маргиналним рубом гингиве горњих зуба. Игла пробија слузокожу у удубљењу између гране доње вилице и задњег дела алвеоларног наставка горње вил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Игла се потискује у дубину што је могуће више латерално да прати ангулацију виличне гране. Након пута од 2,5 до 3мм врх игле је у горњем делу птеригомандибуларног прос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0" y="6424560"/>
            <a:ext cx="3821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C6A1-6F7F-42AF-86E3-F0FAF84A792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5" name="Picture 7" descr="C:\Users\Zoran\Downloads\anestezija\gg.bmp"/>
          <p:cNvPicPr/>
          <p:nvPr/>
        </p:nvPicPr>
        <p:blipFill>
          <a:blip r:embed="rId1"/>
          <a:srcRect l="0" t="0" r="819" b="13123"/>
          <a:stretch/>
        </p:blipFill>
        <p:spPr>
          <a:xfrm>
            <a:off x="1976400" y="1539720"/>
            <a:ext cx="5264280" cy="403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0" y="6370560"/>
            <a:ext cx="37116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73E8-8C7E-4D38-9B84-5AA06AF683C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488880" y="1427040"/>
            <a:ext cx="8379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ЕКСТРАОРАЛНА 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дикована је када није могуће применити неку од интраоралних мет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днос виличног отвора и ивица виличне гран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м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дибуларни отвор најчешће је удаљен 10-16 мм од задње ивице гране и око 30 мм од доње ивице мандиб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есто убод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налази се у пределу базе доње вилице, око 1,5 цм испод њеног у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кон пробијања коже, платизме и унутрашњег птеригоидног мишића, игла се усмерава навише кроз птеригомандибуларни простор до дубине од око 4цм, односно нешто изнад мандибуларног о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0" y="6424560"/>
            <a:ext cx="3848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02C7-C4F1-44F4-AB8D-7203CC33E37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" name="Picture 2" descr="anest099"/>
          <p:cNvPicPr/>
          <p:nvPr/>
        </p:nvPicPr>
        <p:blipFill>
          <a:blip r:embed="rId1"/>
          <a:srcRect l="23152" t="0" r="18367" b="0"/>
          <a:stretch/>
        </p:blipFill>
        <p:spPr>
          <a:xfrm>
            <a:off x="187200" y="1415880"/>
            <a:ext cx="3813480" cy="493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anest101"/>
          <p:cNvPicPr/>
          <p:nvPr/>
        </p:nvPicPr>
        <p:blipFill>
          <a:blip r:embed="rId2"/>
          <a:srcRect l="31379" t="21480" r="21790" b="20174"/>
          <a:stretch/>
        </p:blipFill>
        <p:spPr>
          <a:xfrm>
            <a:off x="4308480" y="1590840"/>
            <a:ext cx="4284720" cy="40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0" y="6424560"/>
            <a:ext cx="3780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34C0-F967-4C9E-82B0-1D51C57E4E4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476280" y="1754280"/>
            <a:ext cx="8166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ПРОВОДНА АНЕСТЕЗИЈА ЈЕЗИЧНОГ ЖИВ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води се истовремено са мандибуларном анестезијом  на описан начин. Може се изводити и изоловано, било у птеригомандибуларном простору или у пределу пода усне шупљ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imagesCAMPA7GK.jpg"/>
          <p:cNvPicPr/>
          <p:nvPr/>
        </p:nvPicPr>
        <p:blipFill>
          <a:blip r:embed="rId1"/>
          <a:srcRect l="-1591" t="7122" r="0" b="0"/>
          <a:stretch/>
        </p:blipFill>
        <p:spPr>
          <a:xfrm>
            <a:off x="2136600" y="1353960"/>
            <a:ext cx="4284720" cy="446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424560"/>
            <a:ext cx="3808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52A4-E6C7-4894-9F22-A53641B72E4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425520" y="1641600"/>
            <a:ext cx="82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ПРОВОДНА АНЕСТЕЗИЈА ОБРАЗНОГ ЖИВ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anest105"/>
          <p:cNvPicPr/>
          <p:nvPr/>
        </p:nvPicPr>
        <p:blipFill>
          <a:blip r:embed="rId1"/>
          <a:srcRect l="20146" t="49560" r="36034" b="1048"/>
          <a:stretch/>
        </p:blipFill>
        <p:spPr>
          <a:xfrm>
            <a:off x="2128680" y="2179800"/>
            <a:ext cx="484524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424560"/>
            <a:ext cx="3726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070E-3DE9-47AF-BAA1-03559959984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463680" y="1465200"/>
            <a:ext cx="81788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СПРОВОДНА АНЕСТЕЗИЈА БРАДНОГ ЖИВ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њује се када је потребно извести анестезију предњег дела доње вилице а није погодно изводити мандибуларну анестез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случајеви када се ради обостра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anest111"/>
          <p:cNvPicPr/>
          <p:nvPr/>
        </p:nvPicPr>
        <p:blipFill>
          <a:blip r:embed="rId1"/>
          <a:srcRect l="0" t="13452" r="13442" b="0"/>
          <a:stretch/>
        </p:blipFill>
        <p:spPr>
          <a:xfrm>
            <a:off x="2419200" y="3193920"/>
            <a:ext cx="429588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753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3527-235F-4501-9680-32396CA8025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76280" y="1766880"/>
            <a:ext cx="81295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МАНДИБУЛАРНА АНЕСТ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Спроводна анестезија доњег зубног, језичног и понекад, букалног живца, односно свих тзв. оралних грана доњовиличног живца, која се постиже апликацијом анестетичког раствора у птеригомандибуларни прос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: једна од најчешће примењиваних техника локалне анестезије у стоматолошкој пракси, користи се за извођење готово свих интервенција у доњој вилици и на доњим зуб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7116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A8D-743C-47F0-B733-A69E083631B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14440" y="1565280"/>
            <a:ext cx="814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фекат анестезије се манифестује утрнулошћу меких ткива инервисаних брадним живцем и неосетљивошћу за бол инервационог предела секутићног жив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anest110"/>
          <p:cNvPicPr/>
          <p:nvPr/>
        </p:nvPicPr>
        <p:blipFill>
          <a:blip r:embed="rId1"/>
          <a:srcRect l="3004" t="10786" r="16861" b="23106"/>
          <a:stretch/>
        </p:blipFill>
        <p:spPr>
          <a:xfrm>
            <a:off x="1590840" y="2705040"/>
            <a:ext cx="60498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0" y="6424560"/>
            <a:ext cx="37400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4462-F0BB-4D43-94FA-7AD91DE9908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:\Users\Zoran\Downloads\anestezija\images ghgfdsrea.jpg"/>
          <p:cNvPicPr/>
          <p:nvPr/>
        </p:nvPicPr>
        <p:blipFill>
          <a:blip r:embed="rId1"/>
          <a:stretch/>
        </p:blipFill>
        <p:spPr>
          <a:xfrm>
            <a:off x="1492200" y="1314360"/>
            <a:ext cx="62388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0" y="6424560"/>
            <a:ext cx="37400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FA34-9626-4493-A5EF-32FF5024D05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501480" y="1816200"/>
            <a:ext cx="812808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НТРАОРАЛНЕ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директан на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ректан на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директно – директан на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инози 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92d050"/>
                </a:solidFill>
                <a:latin typeface="Palatino Linotype"/>
              </a:rPr>
              <a:t>GOW – GATES </a:t>
            </a:r>
            <a:r>
              <a:rPr b="0" lang="sr-CS" sz="2000" spc="-1" strike="noStrike">
                <a:solidFill>
                  <a:srgbClr val="92d050"/>
                </a:solidFill>
                <a:latin typeface="Palatino Linotype"/>
              </a:rPr>
              <a:t>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Brace 8"/>
          <p:cNvSpPr/>
          <p:nvPr/>
        </p:nvSpPr>
        <p:spPr>
          <a:xfrm>
            <a:off x="4622760" y="1941480"/>
            <a:ext cx="425520" cy="2718000"/>
          </a:xfrm>
          <a:custGeom>
            <a:avLst/>
            <a:gdLst>
              <a:gd name="textAreaLeft" fmla="*/ 0 w 425520"/>
              <a:gd name="textAreaRight" fmla="*/ 153720 w 425520"/>
              <a:gd name="textAreaTop" fmla="*/ 10800 h 2718000"/>
              <a:gd name="textAreaBottom" fmla="*/ 2707200 h 271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2"/>
                </a:cubicBezTo>
                <a:lnTo>
                  <a:pt x="10800" y="10518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2"/>
                </a:cubicBezTo>
                <a:lnTo>
                  <a:pt x="10800" y="21318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5248440" y="2604960"/>
            <a:ext cx="34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ацијента поставити у такав положај да оклузална раван доње вилице, при отвореним устима, буде паралелна са п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0" y="6424560"/>
            <a:ext cx="3821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0390-F712-4D85-ABAF-5A90F0A892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01480" y="1654200"/>
            <a:ext cx="8116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Анатомски параме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anest072"/>
          <p:cNvPicPr/>
          <p:nvPr/>
        </p:nvPicPr>
        <p:blipFill>
          <a:blip r:embed="rId1"/>
          <a:srcRect l="14277" t="3837" r="25278" b="17510"/>
          <a:stretch/>
        </p:blipFill>
        <p:spPr>
          <a:xfrm>
            <a:off x="739800" y="2217600"/>
            <a:ext cx="3425760" cy="385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anest073"/>
          <p:cNvPicPr/>
          <p:nvPr/>
        </p:nvPicPr>
        <p:blipFill>
          <a:blip r:embed="rId2"/>
          <a:srcRect l="0" t="0" r="23440" b="0"/>
          <a:stretch/>
        </p:blipFill>
        <p:spPr>
          <a:xfrm>
            <a:off x="4546440" y="2292480"/>
            <a:ext cx="4116600" cy="4032000"/>
          </a:xfrm>
          <a:prstGeom prst="rect">
            <a:avLst/>
          </a:prstGeom>
          <a:ln w="0">
            <a:noFill/>
          </a:ln>
        </p:spPr>
      </p:pic>
      <p:cxnSp>
        <p:nvCxnSpPr>
          <p:cNvPr id="80" name="Straight Arrow Connector 10"/>
          <p:cNvCxnSpPr/>
          <p:nvPr/>
        </p:nvCxnSpPr>
        <p:spPr>
          <a:xfrm flipV="1">
            <a:off x="6350040" y="1866240"/>
            <a:ext cx="891360" cy="131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1" name="TextBox 11"/>
          <p:cNvSpPr/>
          <p:nvPr/>
        </p:nvSpPr>
        <p:spPr>
          <a:xfrm>
            <a:off x="6113520" y="1440000"/>
            <a:ext cx="30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Raphe pterygomandib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3"/>
          <p:cNvCxnSpPr/>
          <p:nvPr/>
        </p:nvCxnSpPr>
        <p:spPr>
          <a:xfrm flipH="1" flipV="1">
            <a:off x="4346280" y="1677600"/>
            <a:ext cx="1040400" cy="1478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TextBox 14"/>
          <p:cNvSpPr/>
          <p:nvPr/>
        </p:nvSpPr>
        <p:spPr>
          <a:xfrm>
            <a:off x="2517840" y="13399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Palatino Linotype"/>
              </a:rPr>
              <a:t>предња ивица виличне г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0" y="6424560"/>
            <a:ext cx="3753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D8E0-5BB9-41CD-8C1C-53645E8AC9E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rcRect l="23582" t="21265" r="44032" b="15556"/>
          <a:stretch/>
        </p:blipFill>
        <p:spPr>
          <a:xfrm>
            <a:off x="4205160" y="1712880"/>
            <a:ext cx="4202280" cy="426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rcRect l="18956" t="28967" r="41492" b="11841"/>
          <a:stretch/>
        </p:blipFill>
        <p:spPr>
          <a:xfrm>
            <a:off x="425520" y="1712880"/>
            <a:ext cx="42130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0" y="6424560"/>
            <a:ext cx="37400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B210-3F0E-41DA-9B06-6AB2AF51959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63680" y="1403280"/>
            <a:ext cx="8280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Индиректан на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есто убода: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лузокожа изнад ретромоларног троугла, 0,5 цм медијално од предње ивице виличне гране и око 1цм изнад оклузалне равни доњих зуба. У случају недостатка доњих зуба, место убода је око 2 цм изнад горње ивице алвеоларног греб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anest075"/>
          <p:cNvPicPr/>
          <p:nvPr/>
        </p:nvPicPr>
        <p:blipFill>
          <a:blip r:embed="rId1"/>
          <a:srcRect l="0" t="0" r="28215" b="8680"/>
          <a:stretch/>
        </p:blipFill>
        <p:spPr>
          <a:xfrm>
            <a:off x="2894040" y="3406680"/>
            <a:ext cx="316872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916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13DE-6324-4275-B4D1-87F6DAEFA24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0" name="Picture 4" descr="anest076"/>
          <p:cNvPicPr/>
          <p:nvPr/>
        </p:nvPicPr>
        <p:blipFill>
          <a:blip r:embed="rId1"/>
          <a:srcRect l="10809" t="0" r="14265" b="0"/>
          <a:stretch/>
        </p:blipFill>
        <p:spPr>
          <a:xfrm>
            <a:off x="363600" y="1565280"/>
            <a:ext cx="4603680" cy="4608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5010120" y="1339920"/>
            <a:ext cx="383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Игла се уводи из правца очњака са супротне ст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Мења правац и наставља пут у дубину паралелно  с унутрашњом страном виличне г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осле пута од око 1,5 цм, када се изгуби контакт са кости, бризгалица поново мења смер ка премоларима супротне стране, а затим потискује све до контакта са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Palatino Linotype"/>
              </a:rPr>
              <a:t>Аспирирати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и депоновати 1,5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риликом извлачења игле после 0,5 цм, депоновати осталих 0,5мл за спроводну анестезију језичног жив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0" y="6424560"/>
            <a:ext cx="37828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A461-7F9F-4770-9B6D-6611347A8C9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76280" y="1365120"/>
            <a:ext cx="81421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Директан на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есто убод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слузокожа изнад ретромоларног троугла, такође око 1цм изнад гризних површина доњих зуба, али ближе птеригомандибуларном набору, приближно на средини растојања између овог набора и предње ивице виличне г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nest085"/>
          <p:cNvPicPr/>
          <p:nvPr/>
        </p:nvPicPr>
        <p:blipFill>
          <a:blip r:embed="rId1"/>
          <a:srcRect l="18376" t="24844" r="32150" b="0"/>
          <a:stretch/>
        </p:blipFill>
        <p:spPr>
          <a:xfrm>
            <a:off x="1139760" y="3432240"/>
            <a:ext cx="2643120" cy="3011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anest086"/>
          <p:cNvPicPr/>
          <p:nvPr/>
        </p:nvPicPr>
        <p:blipFill>
          <a:blip r:embed="rId2"/>
          <a:srcRect l="0" t="16098" r="32900" b="0"/>
          <a:stretch/>
        </p:blipFill>
        <p:spPr>
          <a:xfrm>
            <a:off x="4672080" y="3419640"/>
            <a:ext cx="3263760" cy="30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780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B190-74C5-4937-98C2-3389AD240E5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Спроводне анестезије у доњој вилиц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25600" y="1428840"/>
            <a:ext cx="8167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Индиректно – директан на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есто убод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слузокожа изнад ретромоларног предела, 1 цм изнад оклузалне равни доњих зуба непосредно уз слепоочни гребен који треба палпир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imagesCAQ307PK.jpg"/>
          <p:cNvPicPr/>
          <p:nvPr/>
        </p:nvPicPr>
        <p:blipFill>
          <a:blip r:embed="rId1"/>
          <a:srcRect l="-32171" t="3489" r="-21215" b="6346"/>
          <a:stretch/>
        </p:blipFill>
        <p:spPr>
          <a:xfrm>
            <a:off x="2843280" y="3056040"/>
            <a:ext cx="3166920" cy="3313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9"/>
          <p:cNvSpPr/>
          <p:nvPr/>
        </p:nvSpPr>
        <p:spPr>
          <a:xfrm>
            <a:off x="6124680" y="337032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6258240" y="48229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1-30T11:21:12Z</dcterms:modified>
  <cp:revision>536</cp:revision>
  <dc:subject/>
  <dc:title>      NAZIV PREDAVANJA</dc:title>
</cp:coreProperties>
</file>